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0" y="0"/>
            <a:ext cx="3038400" cy="465120"/>
          </a:xfrm>
          <a:prstGeom prst="rect">
            <a:avLst/>
          </a:prstGeom>
          <a:noFill/>
          <a:ln w="0">
            <a:noFill/>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71880" y="0"/>
            <a:ext cx="3036960" cy="465120"/>
          </a:xfrm>
          <a:prstGeom prst="rect">
            <a:avLst/>
          </a:prstGeom>
          <a:noFill/>
          <a:ln w="0">
            <a:noFill/>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sldImg"/>
          </p:nvPr>
        </p:nvSpPr>
        <p:spPr>
          <a:xfrm>
            <a:off x="1179000" y="694800"/>
            <a:ext cx="4651560" cy="34894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701280" y="4416480"/>
            <a:ext cx="5607000" cy="4184640"/>
          </a:xfrm>
          <a:prstGeom prst="rect">
            <a:avLst/>
          </a:prstGeom>
          <a:noFill/>
          <a:ln w="0">
            <a:noFill/>
          </a:ln>
        </p:spPr>
        <p:txBody>
          <a:bodyPr lIns="88920" rIns="889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2"/>
          </p:nvPr>
        </p:nvSpPr>
        <p:spPr>
          <a:xfrm>
            <a:off x="0" y="8829720"/>
            <a:ext cx="3038400" cy="465120"/>
          </a:xfrm>
          <a:prstGeom prst="rect">
            <a:avLst/>
          </a:prstGeom>
          <a:noFill/>
          <a:ln w="0">
            <a:noFill/>
          </a:ln>
        </p:spPr>
        <p:txBody>
          <a:bodyPr lIns="88920" rIns="889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6"/>
          <p:cNvSpPr>
            <a:spLocks noGrp="1"/>
          </p:cNvSpPr>
          <p:nvPr>
            <p:ph type="sldNum" idx="3"/>
          </p:nvPr>
        </p:nvSpPr>
        <p:spPr>
          <a:xfrm>
            <a:off x="3971880" y="8829720"/>
            <a:ext cx="3036960" cy="465120"/>
          </a:xfrm>
          <a:prstGeom prst="rect">
            <a:avLst/>
          </a:prstGeom>
          <a:noFill/>
          <a:ln w="0">
            <a:noFill/>
          </a:ln>
        </p:spPr>
        <p:txBody>
          <a:bodyPr lIns="88920" rIns="88920" tIns="44640" bIns="44640" anchor="b">
            <a:noAutofit/>
          </a:bodyPr>
          <a:lstStyle>
            <a:lvl1pPr indent="0" algn="r">
              <a:lnSpc>
                <a:spcPct val="100000"/>
              </a:lnSpc>
              <a:buNone/>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defRPr b="0" lang="pt-BR" sz="1200" spc="-1" strike="noStrike">
                <a:solidFill>
                  <a:srgbClr val="000000"/>
                </a:solidFill>
                <a:latin typeface="Times New Roman"/>
              </a:defRPr>
            </a:lvl1pPr>
          </a:lstStyle>
          <a:p>
            <a:pPr indent="0" algn="r">
              <a:lnSpc>
                <a:spcPct val="100000"/>
              </a:lnSpc>
              <a:buNone/>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fld id="{1185AA8B-58F1-46DF-818C-AE0AC24FFD46}"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79360" y="695160"/>
            <a:ext cx="4651560" cy="3489480"/>
          </a:xfrm>
          <a:prstGeom prst="rect">
            <a:avLst/>
          </a:prstGeom>
          <a:ln w="0">
            <a:noFill/>
          </a:ln>
        </p:spPr>
      </p:sp>
      <p:sp>
        <p:nvSpPr>
          <p:cNvPr id="102"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Espaço Reservado para Número de Slide 3"/>
          <p:cNvSpPr/>
          <p:nvPr/>
        </p:nvSpPr>
        <p:spPr>
          <a:xfrm>
            <a:off x="3971880" y="8829720"/>
            <a:ext cx="3036960" cy="465120"/>
          </a:xfrm>
          <a:prstGeom prst="rect">
            <a:avLst/>
          </a:prstGeom>
          <a:noFill/>
          <a:ln w="0">
            <a:noFill/>
          </a:ln>
        </p:spPr>
        <p:style>
          <a:lnRef idx="0"/>
          <a:fillRef idx="0"/>
          <a:effectRef idx="0"/>
          <a:fontRef idx="minor"/>
        </p:style>
        <p:txBody>
          <a:bodyPr lIns="88920" rIns="88920" tIns="44640" bIns="44640" anchor="b">
            <a:noAutofit/>
          </a:bodyPr>
          <a:p>
            <a:pPr algn="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fld id="{53848F0E-BABB-4B3E-B2E4-96AFA5B0C819}"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3640" cy="837720"/>
            <a:chOff x="0" y="0"/>
            <a:chExt cx="9143640" cy="837720"/>
          </a:xfrm>
        </p:grpSpPr>
        <p:sp>
          <p:nvSpPr>
            <p:cNvPr id="1" name="Rectangle 3"/>
            <p:cNvSpPr/>
            <p:nvPr/>
          </p:nvSpPr>
          <p:spPr>
            <a:xfrm>
              <a:off x="0" y="0"/>
              <a:ext cx="9143640" cy="837720"/>
            </a:xfrm>
            <a:prstGeom prst="rect">
              <a:avLst/>
            </a:prstGeom>
            <a:solidFill>
              <a:srgbClr val="ffcb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Rectangle 4"/>
            <p:cNvSpPr/>
            <p:nvPr/>
          </p:nvSpPr>
          <p:spPr>
            <a:xfrm>
              <a:off x="0" y="0"/>
              <a:ext cx="9143640" cy="837720"/>
            </a:xfrm>
            <a:prstGeom prst="rect">
              <a:avLst/>
            </a:prstGeom>
            <a:solidFill>
              <a:srgbClr val="ffcb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3" name="Picture 5" descr="gov fede"/>
          <p:cNvPicPr/>
          <p:nvPr/>
        </p:nvPicPr>
        <p:blipFill>
          <a:blip r:embed="rId2"/>
          <a:stretch/>
        </p:blipFill>
        <p:spPr>
          <a:xfrm>
            <a:off x="7543800" y="222120"/>
            <a:ext cx="1295280" cy="463680"/>
          </a:xfrm>
          <a:prstGeom prst="rect">
            <a:avLst/>
          </a:prstGeom>
          <a:ln w="0">
            <a:noFill/>
          </a:ln>
        </p:spPr>
      </p:pic>
      <p:pic>
        <p:nvPicPr>
          <p:cNvPr id="4" name="Picture 6" descr="Logo PREV power"/>
          <p:cNvPicPr/>
          <p:nvPr/>
        </p:nvPicPr>
        <p:blipFill>
          <a:blip r:embed="rId3"/>
          <a:stretch/>
        </p:blipFill>
        <p:spPr>
          <a:xfrm>
            <a:off x="152280" y="76320"/>
            <a:ext cx="990720" cy="680760"/>
          </a:xfrm>
          <a:prstGeom prst="rect">
            <a:avLst/>
          </a:prstGeom>
          <a:ln w="0">
            <a:noFill/>
          </a:ln>
        </p:spPr>
      </p:pic>
      <p:grpSp>
        <p:nvGrpSpPr>
          <p:cNvPr id="5" name="Group 7"/>
          <p:cNvGrpSpPr/>
          <p:nvPr/>
        </p:nvGrpSpPr>
        <p:grpSpPr>
          <a:xfrm>
            <a:off x="0" y="0"/>
            <a:ext cx="9143640" cy="837720"/>
            <a:chOff x="0" y="0"/>
            <a:chExt cx="9143640" cy="837720"/>
          </a:xfrm>
        </p:grpSpPr>
        <p:sp>
          <p:nvSpPr>
            <p:cNvPr id="6" name="Rectangle 8"/>
            <p:cNvSpPr/>
            <p:nvPr/>
          </p:nvSpPr>
          <p:spPr>
            <a:xfrm>
              <a:off x="0" y="0"/>
              <a:ext cx="9143640" cy="837720"/>
            </a:xfrm>
            <a:prstGeom prst="rect">
              <a:avLst/>
            </a:prstGeom>
            <a:solidFill>
              <a:srgbClr val="ffcb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Rectangle 9"/>
            <p:cNvSpPr/>
            <p:nvPr/>
          </p:nvSpPr>
          <p:spPr>
            <a:xfrm>
              <a:off x="0" y="0"/>
              <a:ext cx="9143640" cy="837720"/>
            </a:xfrm>
            <a:prstGeom prst="rect">
              <a:avLst/>
            </a:prstGeom>
            <a:solidFill>
              <a:srgbClr val="ffcb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8" name="Picture 11" descr="Logo PREV power"/>
          <p:cNvPicPr/>
          <p:nvPr/>
        </p:nvPicPr>
        <p:blipFill>
          <a:blip r:embed="rId4"/>
          <a:stretch/>
        </p:blipFill>
        <p:spPr>
          <a:xfrm>
            <a:off x="152280" y="76320"/>
            <a:ext cx="990720" cy="680760"/>
          </a:xfrm>
          <a:prstGeom prst="rect">
            <a:avLst/>
          </a:prstGeom>
          <a:ln w="0">
            <a:noFill/>
          </a:ln>
        </p:spPr>
      </p:pic>
      <p:sp>
        <p:nvSpPr>
          <p:cNvPr id="9" name="Text Box 12"/>
          <p:cNvSpPr/>
          <p:nvPr/>
        </p:nvSpPr>
        <p:spPr>
          <a:xfrm>
            <a:off x="1332000" y="88920"/>
            <a:ext cx="7632720" cy="105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ordenação-Geral de Política de Seguro Contra Acidentes do Trabalh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 Relacionamento Interinstitucional  - CGSAT/DPSSO/SPPS/MP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395280" y="2811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Rectangle 5"/>
          <p:cNvSpPr/>
          <p:nvPr/>
        </p:nvSpPr>
        <p:spPr>
          <a:xfrm>
            <a:off x="6242040" y="2976480"/>
            <a:ext cx="184320" cy="58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Retângulo 11"/>
          <p:cNvSpPr/>
          <p:nvPr/>
        </p:nvSpPr>
        <p:spPr>
          <a:xfrm>
            <a:off x="108000" y="2205000"/>
            <a:ext cx="88916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FATOR ACIDENTÁRIO DE PREVENÇÃO – FAP</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POSTAS DE ALTERAÇÕ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NO MÉTODO DE CÁLCUL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8697240" y="6410160"/>
            <a:ext cx="4489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Arial"/>
            </a:endParaRPr>
          </a:p>
        </p:txBody>
      </p:sp>
      <p:sp>
        <p:nvSpPr>
          <p:cNvPr id="77" name="CaixaDeTexto 6"/>
          <p:cNvSpPr/>
          <p:nvPr/>
        </p:nvSpPr>
        <p:spPr>
          <a:xfrm>
            <a:off x="-7920" y="803160"/>
            <a:ext cx="9470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ódigos de Movimentação GFIP atualmente considerados no cálculo</a:t>
            </a:r>
            <a:endParaRPr b="0" lang="en-US" sz="1600" spc="-1" strike="noStrike">
              <a:solidFill>
                <a:srgbClr val="000000"/>
              </a:solidFill>
              <a:latin typeface="Arial"/>
            </a:endParaRPr>
          </a:p>
        </p:txBody>
      </p:sp>
      <p:pic>
        <p:nvPicPr>
          <p:cNvPr id="78" name="Imagem 2" descr=""/>
          <p:cNvPicPr/>
          <p:nvPr/>
        </p:nvPicPr>
        <p:blipFill>
          <a:blip r:embed="rId1"/>
          <a:stretch/>
        </p:blipFill>
        <p:spPr>
          <a:xfrm>
            <a:off x="2135160" y="1212840"/>
            <a:ext cx="5184720" cy="5645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5"/>
          <p:cNvSpPr/>
          <p:nvPr/>
        </p:nvSpPr>
        <p:spPr>
          <a:xfrm>
            <a:off x="8697240" y="6410160"/>
            <a:ext cx="4489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Arial"/>
            </a:endParaRPr>
          </a:p>
        </p:txBody>
      </p:sp>
      <p:sp>
        <p:nvSpPr>
          <p:cNvPr id="80" name="CaixaDeTexto 6"/>
          <p:cNvSpPr/>
          <p:nvPr/>
        </p:nvSpPr>
        <p:spPr>
          <a:xfrm>
            <a:off x="-87480" y="981000"/>
            <a:ext cx="9471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7. Alteração da regra de desempate das empresas no CNAE</a:t>
            </a:r>
            <a:endParaRPr b="0" lang="en-US" sz="2400" spc="-1" strike="noStrike">
              <a:solidFill>
                <a:srgbClr val="000000"/>
              </a:solidFill>
              <a:latin typeface="Arial"/>
            </a:endParaRPr>
          </a:p>
        </p:txBody>
      </p:sp>
      <p:sp>
        <p:nvSpPr>
          <p:cNvPr id="81" name="CaixaDeTexto 6"/>
          <p:cNvSpPr/>
          <p:nvPr/>
        </p:nvSpPr>
        <p:spPr>
          <a:xfrm>
            <a:off x="-28440" y="1989000"/>
            <a:ext cx="8854920" cy="283824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ualmente a regra de desempate estabelece que o posicionamento da empresas do mesmo CNAE empatadas na mesma posição (Nordem empatado) será a posição média das posições empatadas.</a:t>
            </a:r>
            <a:endParaRPr b="0" lang="en-US" sz="20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emplo de uma CNAE com 300 empresas, das quais 07 estão empatadas na posição 200º. Após o desempate, todas as sete empresas empatadas ficarão na posição 203º (Nordem empatado).</a:t>
            </a:r>
            <a:endParaRPr b="0" lang="en-US" sz="20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 name="Imagem 6" descr=""/>
          <p:cNvPicPr/>
          <p:nvPr/>
        </p:nvPicPr>
        <p:blipFill>
          <a:blip r:embed="rId1"/>
          <a:stretch/>
        </p:blipFill>
        <p:spPr>
          <a:xfrm>
            <a:off x="826920" y="4441680"/>
            <a:ext cx="7388280" cy="457200"/>
          </a:xfrm>
          <a:prstGeom prst="rect">
            <a:avLst/>
          </a:prstGeom>
          <a:ln w="0">
            <a:noFill/>
          </a:ln>
        </p:spPr>
      </p:pic>
      <p:sp>
        <p:nvSpPr>
          <p:cNvPr id="83" name="Seta para a direita listrada 5"/>
          <p:cNvSpPr/>
          <p:nvPr/>
        </p:nvSpPr>
        <p:spPr>
          <a:xfrm rot="5400000">
            <a:off x="4611240" y="5387760"/>
            <a:ext cx="979200" cy="484200"/>
          </a:xfrm>
          <a:custGeom>
            <a:avLst/>
            <a:gdLst/>
            <a:ahLst/>
            <a:rect l="l" t="t" r="r" b="b"/>
            <a:pathLst>
              <a:path w="979488" h="484187">
                <a:moveTo>
                  <a:pt x="0" y="121047"/>
                </a:moveTo>
                <a:lnTo>
                  <a:pt x="15131" y="121047"/>
                </a:lnTo>
                <a:lnTo>
                  <a:pt x="15131" y="363140"/>
                </a:lnTo>
                <a:lnTo>
                  <a:pt x="0" y="363140"/>
                </a:lnTo>
                <a:lnTo>
                  <a:pt x="0" y="121047"/>
                </a:lnTo>
                <a:close/>
                <a:moveTo>
                  <a:pt x="30262" y="121047"/>
                </a:moveTo>
                <a:lnTo>
                  <a:pt x="60523" y="121047"/>
                </a:lnTo>
                <a:lnTo>
                  <a:pt x="60523" y="363140"/>
                </a:lnTo>
                <a:lnTo>
                  <a:pt x="30262" y="363140"/>
                </a:lnTo>
                <a:lnTo>
                  <a:pt x="30262" y="121047"/>
                </a:lnTo>
                <a:close/>
                <a:moveTo>
                  <a:pt x="75654" y="121047"/>
                </a:moveTo>
                <a:lnTo>
                  <a:pt x="737395" y="121047"/>
                </a:lnTo>
                <a:lnTo>
                  <a:pt x="737395" y="0"/>
                </a:lnTo>
                <a:lnTo>
                  <a:pt x="979488" y="242094"/>
                </a:lnTo>
                <a:lnTo>
                  <a:pt x="737395" y="484187"/>
                </a:lnTo>
                <a:lnTo>
                  <a:pt x="737395" y="363140"/>
                </a:lnTo>
                <a:lnTo>
                  <a:pt x="75654" y="363140"/>
                </a:lnTo>
                <a:lnTo>
                  <a:pt x="75654" y="121047"/>
                </a:lnTo>
                <a:close/>
              </a:path>
            </a:pathLst>
          </a:custGeom>
          <a:solidFill>
            <a:srgbClr val="00cc99"/>
          </a:solidFill>
          <a:ln w="9360">
            <a:solidFill>
              <a:srgbClr val="ff0000"/>
            </a:solidFill>
            <a:round/>
          </a:ln>
        </p:spPr>
        <p:style>
          <a:lnRef idx="0"/>
          <a:fillRef idx="0"/>
          <a:effectRef idx="0"/>
          <a:fontRef idx="minor"/>
        </p:style>
        <p:txBody>
          <a:bodyPr wrap="none" lIns="90000" rIns="90000" tIns="46800" bIns="46800" anchor="ctr" rot="10800000">
            <a:noAutofit/>
          </a:bodyPr>
          <a:p>
            <a:endParaRPr b="0" lang="en-US" sz="2800" spc="-1" strike="noStrike">
              <a:solidFill>
                <a:srgbClr val="000000"/>
              </a:solidFill>
              <a:latin typeface="Arial"/>
            </a:endParaRPr>
          </a:p>
        </p:txBody>
      </p:sp>
      <p:pic>
        <p:nvPicPr>
          <p:cNvPr id="84" name="Imagem 11" descr=""/>
          <p:cNvPicPr/>
          <p:nvPr/>
        </p:nvPicPr>
        <p:blipFill>
          <a:blip r:embed="rId2"/>
          <a:stretch/>
        </p:blipFill>
        <p:spPr>
          <a:xfrm>
            <a:off x="826920" y="6216480"/>
            <a:ext cx="7388280" cy="457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Imagem 6" descr=""/>
          <p:cNvPicPr/>
          <p:nvPr/>
        </p:nvPicPr>
        <p:blipFill>
          <a:blip r:embed="rId1"/>
          <a:stretch/>
        </p:blipFill>
        <p:spPr>
          <a:xfrm>
            <a:off x="755640" y="2900520"/>
            <a:ext cx="7388280" cy="457200"/>
          </a:xfrm>
          <a:prstGeom prst="rect">
            <a:avLst/>
          </a:prstGeom>
          <a:ln w="0">
            <a:noFill/>
          </a:ln>
        </p:spPr>
      </p:pic>
      <p:sp>
        <p:nvSpPr>
          <p:cNvPr id="86" name="Seta para a direita listrada 18"/>
          <p:cNvSpPr/>
          <p:nvPr/>
        </p:nvSpPr>
        <p:spPr>
          <a:xfrm rot="5400000">
            <a:off x="4515480" y="3677400"/>
            <a:ext cx="689040" cy="287280"/>
          </a:xfrm>
          <a:custGeom>
            <a:avLst/>
            <a:gdLst/>
            <a:ahLst/>
            <a:rect l="l" t="t" r="r" b="b"/>
            <a:pathLst>
              <a:path w="688975" h="287337">
                <a:moveTo>
                  <a:pt x="0" y="71834"/>
                </a:moveTo>
                <a:lnTo>
                  <a:pt x="8979" y="71834"/>
                </a:lnTo>
                <a:lnTo>
                  <a:pt x="8979" y="215503"/>
                </a:lnTo>
                <a:lnTo>
                  <a:pt x="0" y="215503"/>
                </a:lnTo>
                <a:lnTo>
                  <a:pt x="0" y="71834"/>
                </a:lnTo>
                <a:close/>
                <a:moveTo>
                  <a:pt x="17959" y="71834"/>
                </a:moveTo>
                <a:lnTo>
                  <a:pt x="35917" y="71834"/>
                </a:lnTo>
                <a:lnTo>
                  <a:pt x="35917" y="215503"/>
                </a:lnTo>
                <a:lnTo>
                  <a:pt x="17959" y="215503"/>
                </a:lnTo>
                <a:lnTo>
                  <a:pt x="17959" y="71834"/>
                </a:lnTo>
                <a:close/>
                <a:moveTo>
                  <a:pt x="44896" y="71834"/>
                </a:moveTo>
                <a:lnTo>
                  <a:pt x="545307" y="71834"/>
                </a:lnTo>
                <a:lnTo>
                  <a:pt x="545307" y="0"/>
                </a:lnTo>
                <a:lnTo>
                  <a:pt x="688975" y="143669"/>
                </a:lnTo>
                <a:lnTo>
                  <a:pt x="545307" y="287337"/>
                </a:lnTo>
                <a:lnTo>
                  <a:pt x="545307" y="215503"/>
                </a:lnTo>
                <a:lnTo>
                  <a:pt x="44896" y="215503"/>
                </a:lnTo>
                <a:lnTo>
                  <a:pt x="44896" y="71834"/>
                </a:lnTo>
                <a:close/>
              </a:path>
            </a:pathLst>
          </a:custGeom>
          <a:solidFill>
            <a:srgbClr val="00cc99"/>
          </a:solidFill>
          <a:ln w="9360">
            <a:solidFill>
              <a:srgbClr val="ff0000"/>
            </a:solidFill>
            <a:round/>
          </a:ln>
        </p:spPr>
        <p:style>
          <a:lnRef idx="0"/>
          <a:fillRef idx="0"/>
          <a:effectRef idx="0"/>
          <a:fontRef idx="minor"/>
        </p:style>
        <p:txBody>
          <a:bodyPr wrap="none" lIns="90000" rIns="90000" tIns="46800" bIns="46800" anchor="ctr" rot="10800000">
            <a:noAutofit/>
          </a:bodyPr>
          <a:p>
            <a:endParaRPr b="0" lang="en-US" sz="2800" spc="-1" strike="noStrike">
              <a:solidFill>
                <a:srgbClr val="000000"/>
              </a:solidFill>
              <a:latin typeface="Arial"/>
            </a:endParaRPr>
          </a:p>
        </p:txBody>
      </p:sp>
      <p:pic>
        <p:nvPicPr>
          <p:cNvPr id="87" name="Imagem 11" descr=""/>
          <p:cNvPicPr/>
          <p:nvPr/>
        </p:nvPicPr>
        <p:blipFill>
          <a:blip r:embed="rId2"/>
          <a:stretch/>
        </p:blipFill>
        <p:spPr>
          <a:xfrm>
            <a:off x="730080" y="4243320"/>
            <a:ext cx="7413840" cy="457200"/>
          </a:xfrm>
          <a:prstGeom prst="rect">
            <a:avLst/>
          </a:prstGeom>
          <a:ln w="0">
            <a:noFill/>
          </a:ln>
        </p:spPr>
      </p:pic>
      <p:sp>
        <p:nvSpPr>
          <p:cNvPr id="88" name="CaixaDeTexto 8"/>
          <p:cNvSpPr/>
          <p:nvPr/>
        </p:nvSpPr>
        <p:spPr>
          <a:xfrm>
            <a:off x="5155920" y="3643200"/>
            <a:ext cx="122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Regra atual</a:t>
            </a:r>
            <a:endParaRPr b="0" lang="en-US" sz="1600" spc="-1" strike="noStrike">
              <a:solidFill>
                <a:srgbClr val="000000"/>
              </a:solidFill>
              <a:latin typeface="Arial"/>
            </a:endParaRPr>
          </a:p>
        </p:txBody>
      </p:sp>
      <p:sp>
        <p:nvSpPr>
          <p:cNvPr id="89" name="CaixaDeTexto 8"/>
          <p:cNvSpPr/>
          <p:nvPr/>
        </p:nvSpPr>
        <p:spPr>
          <a:xfrm>
            <a:off x="5827320" y="4987800"/>
            <a:ext cx="9928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roposta</a:t>
            </a:r>
            <a:endParaRPr b="0" lang="en-US" sz="1600" spc="-1" strike="noStrike">
              <a:solidFill>
                <a:srgbClr val="000000"/>
              </a:solidFill>
              <a:latin typeface="Arial"/>
            </a:endParaRPr>
          </a:p>
        </p:txBody>
      </p:sp>
      <p:sp>
        <p:nvSpPr>
          <p:cNvPr id="90" name="Seta para a direita listrada 25"/>
          <p:cNvSpPr/>
          <p:nvPr/>
        </p:nvSpPr>
        <p:spPr>
          <a:xfrm rot="5400000">
            <a:off x="4947480" y="4979160"/>
            <a:ext cx="689040" cy="287280"/>
          </a:xfrm>
          <a:custGeom>
            <a:avLst/>
            <a:gdLst/>
            <a:ahLst/>
            <a:rect l="l" t="t" r="r" b="b"/>
            <a:pathLst>
              <a:path w="688975" h="287337">
                <a:moveTo>
                  <a:pt x="0" y="71834"/>
                </a:moveTo>
                <a:lnTo>
                  <a:pt x="8979" y="71834"/>
                </a:lnTo>
                <a:lnTo>
                  <a:pt x="8979" y="215503"/>
                </a:lnTo>
                <a:lnTo>
                  <a:pt x="0" y="215503"/>
                </a:lnTo>
                <a:lnTo>
                  <a:pt x="0" y="71834"/>
                </a:lnTo>
                <a:close/>
                <a:moveTo>
                  <a:pt x="17959" y="71834"/>
                </a:moveTo>
                <a:lnTo>
                  <a:pt x="35917" y="71834"/>
                </a:lnTo>
                <a:lnTo>
                  <a:pt x="35917" y="215503"/>
                </a:lnTo>
                <a:lnTo>
                  <a:pt x="17959" y="215503"/>
                </a:lnTo>
                <a:lnTo>
                  <a:pt x="17959" y="71834"/>
                </a:lnTo>
                <a:close/>
                <a:moveTo>
                  <a:pt x="44896" y="71834"/>
                </a:moveTo>
                <a:lnTo>
                  <a:pt x="545307" y="71834"/>
                </a:lnTo>
                <a:lnTo>
                  <a:pt x="545307" y="0"/>
                </a:lnTo>
                <a:lnTo>
                  <a:pt x="688975" y="143669"/>
                </a:lnTo>
                <a:lnTo>
                  <a:pt x="545307" y="287337"/>
                </a:lnTo>
                <a:lnTo>
                  <a:pt x="545307" y="215503"/>
                </a:lnTo>
                <a:lnTo>
                  <a:pt x="44896" y="215503"/>
                </a:lnTo>
                <a:lnTo>
                  <a:pt x="44896" y="71834"/>
                </a:lnTo>
                <a:close/>
              </a:path>
            </a:pathLst>
          </a:custGeom>
          <a:solidFill>
            <a:srgbClr val="00cc99"/>
          </a:solidFill>
          <a:ln w="9360">
            <a:solidFill>
              <a:srgbClr val="ff0000"/>
            </a:solidFill>
            <a:round/>
          </a:ln>
        </p:spPr>
        <p:style>
          <a:lnRef idx="0"/>
          <a:fillRef idx="0"/>
          <a:effectRef idx="0"/>
          <a:fontRef idx="minor"/>
        </p:style>
        <p:txBody>
          <a:bodyPr wrap="none" lIns="90000" rIns="90000" tIns="46800" bIns="46800" anchor="ctr" rot="10800000">
            <a:noAutofit/>
          </a:bodyPr>
          <a:p>
            <a:endParaRPr b="0" lang="en-US" sz="2800" spc="-1" strike="noStrike">
              <a:solidFill>
                <a:srgbClr val="000000"/>
              </a:solidFill>
              <a:latin typeface="Arial"/>
            </a:endParaRPr>
          </a:p>
        </p:txBody>
      </p:sp>
      <p:sp>
        <p:nvSpPr>
          <p:cNvPr id="91" name="Seta em curva para a esquerda 2"/>
          <p:cNvSpPr/>
          <p:nvPr/>
        </p:nvSpPr>
        <p:spPr>
          <a:xfrm>
            <a:off x="8263080" y="3129120"/>
            <a:ext cx="603000" cy="2747880"/>
          </a:xfrm>
          <a:custGeom>
            <a:avLst/>
            <a:gdLst>
              <a:gd name="textAreaLeft" fmla="*/ 80640 w 603000"/>
              <a:gd name="textAreaRight" fmla="*/ 522360 w 603000"/>
              <a:gd name="textAreaTop" fmla="*/ 630360 h 2747880"/>
              <a:gd name="textAreaBottom" fmla="*/ 2042280 h 2747880"/>
            </a:gdLst>
            <a:ahLst/>
            <a:rect l="textAreaLeft" t="textAreaTop" r="textAreaRight" b="textAreaBottom"/>
            <a:pathLst>
              <a:path w="21600" h="21600">
                <a:moveTo>
                  <a:pt x="0" y="0"/>
                </a:moveTo>
                <a:arcTo wR="21600" hR="9912" stAng="-5400000" swAng="5400000"/>
                <a:lnTo>
                  <a:pt x="21600" y="11097"/>
                </a:lnTo>
                <a:arcTo wR="21600" hR="9912" stAng="0" swAng="3638040"/>
                <a:lnTo>
                  <a:pt x="5400" y="21285"/>
                </a:lnTo>
                <a:lnTo>
                  <a:pt x="0" y="20416"/>
                </a:lnTo>
                <a:lnTo>
                  <a:pt x="5400" y="18916"/>
                </a:lnTo>
                <a:lnTo>
                  <a:pt x="5400" y="19508"/>
                </a:lnTo>
                <a:arcTo wR="21600" hR="9912" stAng="3638040" swAng="-3543596"/>
                <a:lnTo>
                  <a:pt x="21561" y="10504"/>
                </a:lnTo>
                <a:arcTo wR="21600" hR="9912" stAng="-94444" swAng="-5305556"/>
                <a:close/>
              </a:path>
              <a:path fill="darkenLess" w="21600" h="21600">
                <a:moveTo>
                  <a:pt x="0" y="0"/>
                </a:moveTo>
                <a:arcTo wR="21600" hR="9912" stAng="-5400000" swAng="5400000"/>
                <a:lnTo>
                  <a:pt x="21600" y="11097"/>
                </a:lnTo>
                <a:arcTo wR="21600" hR="9912" stAng="0" swAng="-94444"/>
                <a:lnTo>
                  <a:pt x="21561" y="10504"/>
                </a:lnTo>
                <a:arcTo wR="21600" hR="9912" stAng="-94444" swAng="-5305556"/>
                <a:close/>
              </a:path>
            </a:pathLst>
          </a:custGeom>
          <a:solidFill>
            <a:srgbClr val="00cc99"/>
          </a:solidFill>
          <a:ln w="9360">
            <a:solidFill>
              <a:srgbClr val="ff0000"/>
            </a:solidFill>
            <a:roun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CaixaDeTexto 6"/>
          <p:cNvSpPr/>
          <p:nvPr/>
        </p:nvSpPr>
        <p:spPr>
          <a:xfrm>
            <a:off x="-87480" y="981000"/>
            <a:ext cx="9471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7. Alteração da regra de desempate das empresas no CNAE</a:t>
            </a:r>
            <a:endParaRPr b="0" lang="en-US" sz="2400" spc="-1" strike="noStrike">
              <a:solidFill>
                <a:srgbClr val="000000"/>
              </a:solidFill>
              <a:latin typeface="Arial"/>
            </a:endParaRPr>
          </a:p>
        </p:txBody>
      </p:sp>
      <p:sp>
        <p:nvSpPr>
          <p:cNvPr id="93" name="CaixaDeTexto 6"/>
          <p:cNvSpPr/>
          <p:nvPr/>
        </p:nvSpPr>
        <p:spPr>
          <a:xfrm>
            <a:off x="219240" y="1566720"/>
            <a:ext cx="8854920" cy="1618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posta dos empregadore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gra de enfileiramento considerará posições ao invés de números de estabelecimentos. Ou seja, considerar-se-á na mesma posição os índices que apresentarem o mesmo resultado.</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Imagem 5" descr=""/>
          <p:cNvPicPr/>
          <p:nvPr/>
        </p:nvPicPr>
        <p:blipFill>
          <a:blip r:embed="rId3"/>
          <a:stretch/>
        </p:blipFill>
        <p:spPr>
          <a:xfrm>
            <a:off x="730080" y="5614920"/>
            <a:ext cx="7413840" cy="971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5"/>
          <p:cNvSpPr/>
          <p:nvPr/>
        </p:nvSpPr>
        <p:spPr>
          <a:xfrm>
            <a:off x="8697240" y="6410160"/>
            <a:ext cx="4489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Arial"/>
            </a:endParaRPr>
          </a:p>
        </p:txBody>
      </p:sp>
      <p:sp>
        <p:nvSpPr>
          <p:cNvPr id="96" name="CaixaDeTexto 6"/>
          <p:cNvSpPr/>
          <p:nvPr/>
        </p:nvSpPr>
        <p:spPr>
          <a:xfrm>
            <a:off x="644400" y="981000"/>
            <a:ext cx="805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riação de um Grupo de Trabalho – GT para Análise/Formatação  das Propostas</a:t>
            </a:r>
            <a:endParaRPr b="0" lang="en-US" sz="2400" spc="-1" strike="noStrike">
              <a:solidFill>
                <a:srgbClr val="000000"/>
              </a:solidFill>
              <a:latin typeface="Arial"/>
            </a:endParaRPr>
          </a:p>
        </p:txBody>
      </p:sp>
      <p:sp>
        <p:nvSpPr>
          <p:cNvPr id="97" name="CaixaDeTexto 7"/>
          <p:cNvSpPr/>
          <p:nvPr/>
        </p:nvSpPr>
        <p:spPr>
          <a:xfrm>
            <a:off x="1517760" y="1916280"/>
            <a:ext cx="67341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30/10/2014 - Apresentação das Propostas ao CNPS</a:t>
            </a:r>
            <a:endParaRPr b="0" lang="en-US" sz="2000" spc="-1" strike="noStrike">
              <a:solidFill>
                <a:srgbClr val="000000"/>
              </a:solidFill>
              <a:latin typeface="Arial"/>
            </a:endParaRPr>
          </a:p>
        </p:txBody>
      </p:sp>
      <p:sp>
        <p:nvSpPr>
          <p:cNvPr id="98" name="CaixaDeTexto 7"/>
          <p:cNvSpPr/>
          <p:nvPr/>
        </p:nvSpPr>
        <p:spPr>
          <a:xfrm>
            <a:off x="3204720" y="2421000"/>
            <a:ext cx="2934720" cy="436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99ff"/>
                </a:solidFill>
                <a:latin typeface="Arial"/>
              </a:rPr>
              <a:t>Reuniões do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º Reunião - 05/11/2014</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2º Reunião - 12/11/2014</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3º Reunião - 20/11/2014</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4º Reunião - 15/12/2015</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5º Reunião - 22/04/2015</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6º Reunião - 28/05/2015</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7º Reunião - 24/07/2015</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8º Reunião - 26/08/2015</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8697240" y="6410160"/>
            <a:ext cx="4489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Arial"/>
            </a:endParaRPr>
          </a:p>
        </p:txBody>
      </p:sp>
      <p:pic>
        <p:nvPicPr>
          <p:cNvPr id="100" name="Imagem 1" descr=""/>
          <p:cNvPicPr/>
          <p:nvPr/>
        </p:nvPicPr>
        <p:blipFill>
          <a:blip r:embed="rId1"/>
          <a:stretch/>
        </p:blipFill>
        <p:spPr>
          <a:xfrm>
            <a:off x="539640" y="990720"/>
            <a:ext cx="7704360" cy="586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5"/>
          <p:cNvSpPr/>
          <p:nvPr/>
        </p:nvSpPr>
        <p:spPr>
          <a:xfrm>
            <a:off x="8697240" y="6410160"/>
            <a:ext cx="4489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Arial"/>
            </a:endParaRPr>
          </a:p>
        </p:txBody>
      </p:sp>
      <p:sp>
        <p:nvSpPr>
          <p:cNvPr id="57" name="CaixaDeTexto 5"/>
          <p:cNvSpPr/>
          <p:nvPr/>
        </p:nvSpPr>
        <p:spPr>
          <a:xfrm>
            <a:off x="125280" y="1125360"/>
            <a:ext cx="892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Arial"/>
              </a:rPr>
              <a:t>PROPOSTAS PARA ALTERAÇÕES DO FAP (vigência 2017):</a:t>
            </a:r>
            <a:endParaRPr b="0" lang="en-US" sz="1800" spc="-1" strike="noStrike">
              <a:solidFill>
                <a:srgbClr val="000000"/>
              </a:solidFill>
              <a:latin typeface="Arial"/>
            </a:endParaRPr>
          </a:p>
        </p:txBody>
      </p:sp>
      <p:sp>
        <p:nvSpPr>
          <p:cNvPr id="58" name="CaixaDeTexto 6"/>
          <p:cNvSpPr/>
          <p:nvPr/>
        </p:nvSpPr>
        <p:spPr>
          <a:xfrm>
            <a:off x="34920" y="2060640"/>
            <a:ext cx="9109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 Cálculo do FAP por estabelecimento (</a:t>
            </a:r>
            <a:r>
              <a:rPr b="0" lang="pt-BR" sz="2000" spc="-1" strike="noStrike">
                <a:solidFill>
                  <a:srgbClr val="ff0000"/>
                </a:solidFill>
                <a:latin typeface="Arial"/>
              </a:rPr>
              <a:t>vigência 2016</a:t>
            </a:r>
            <a:r>
              <a:rPr b="0" lang="pt-BR"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2. Exclusão dos acidentes de trabalho sem concessão de benefíci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3. Exclusão dos acidentes de traje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4. Exclusão do bloqueio de bonificação em caso de morte ou de invalide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5. Exclusão da redução de 25% do FAP calculado na faixa </a:t>
            </a:r>
            <a:r>
              <a:rPr b="0" i="1" lang="pt-BR" sz="2000" spc="-1" strike="noStrike">
                <a:solidFill>
                  <a:srgbClr val="000000"/>
                </a:solidFill>
                <a:latin typeface="Arial"/>
              </a:rPr>
              <a:t>malu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6. Exclusão do bloqueio de bonificação em caso de taxa média de rotatividade maior que 75%</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7. Alteração da regra de desempate das empresas no CNA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8697240" y="6410160"/>
            <a:ext cx="4489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Arial"/>
            </a:endParaRPr>
          </a:p>
        </p:txBody>
      </p:sp>
      <p:sp>
        <p:nvSpPr>
          <p:cNvPr id="60" name="CaixaDeTexto 6"/>
          <p:cNvSpPr/>
          <p:nvPr/>
        </p:nvSpPr>
        <p:spPr>
          <a:xfrm>
            <a:off x="611280" y="1197000"/>
            <a:ext cx="7819920" cy="5580360"/>
          </a:xfrm>
          <a:prstGeom prst="rect">
            <a:avLst/>
          </a:prstGeom>
          <a:noFill/>
          <a:ln w="0">
            <a:noFill/>
          </a:ln>
        </p:spPr>
        <p:style>
          <a:lnRef idx="0"/>
          <a:fillRef idx="0"/>
          <a:effectRef idx="0"/>
          <a:fontRef idx="minor"/>
        </p:style>
        <p:txBody>
          <a:bodyPr lIns="90000" rIns="90000" tIns="46800" bIns="46800" anchor="t">
            <a:spAutoFit/>
          </a:bodyPr>
          <a:p>
            <a:pPr marL="514440" indent="-51444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álculo do FAP por Estabelecimento</a:t>
            </a:r>
            <a:endParaRPr b="0" lang="en-US" sz="2400" spc="-1" strike="noStrike">
              <a:solidFill>
                <a:srgbClr val="000000"/>
              </a:solidFill>
              <a:latin typeface="Arial"/>
            </a:endParaRPr>
          </a:p>
          <a:p>
            <a:pPr marL="514440" indent="-51444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Diante dos entendimentos do Superior Tribunal de Justiça – STJ, da Secretaria da Receita Federal do Brasil – RFB e da Procuradoria-Geral da Fazenda Nacional – PGFN acerca de que a atribuição do grau de risco e respectiva alíquota do Seguro Acidente do Trabalho – SAT deva ser realizada por estabelecimento, entende-se que o cálculo do FAP também seja por estabelecimento.</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 PGFN e a CONJU/MPS já se manifestaram favoravelmente ao cálculo do FAP por estabelecimento.</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8697240" y="6410160"/>
            <a:ext cx="4489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Arial"/>
            </a:endParaRPr>
          </a:p>
        </p:txBody>
      </p:sp>
      <p:sp>
        <p:nvSpPr>
          <p:cNvPr id="62" name="CaixaDeTexto 6"/>
          <p:cNvSpPr/>
          <p:nvPr/>
        </p:nvSpPr>
        <p:spPr>
          <a:xfrm>
            <a:off x="65160" y="1098720"/>
            <a:ext cx="8856720" cy="570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2. Exclusão dos acidentes de trabalh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sem concessão de benefíci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FAP flexibiliza a alíquota do SAT, cuja destinação é o financiamento dos benefícios acidentários e da aposentadoria especial.</a:t>
            </a:r>
            <a:endParaRPr b="0" lang="en-US" sz="20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s insumos que devem ser considerados para o cálculo do FAP são os relacionados ao risco previdenciário e não ao risco acidentário.</a:t>
            </a:r>
            <a:endParaRPr b="0" lang="en-US" sz="20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risco acidentário tem um viés muito mais relacionado à legislação trabalhista (Normas Regulamentadoras – NRs) do que à legislação previdenciária ou tributária.</a:t>
            </a:r>
            <a:endParaRPr b="0" lang="en-US" sz="20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inclusão dos acidentes sem concessão de benefícios, implica um cálculo do índice de frequência que não diferencia as empresas que causam acidentes com maior gravidade daquelas que causam com menor gravidade. </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8697240" y="6410160"/>
            <a:ext cx="4489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Arial"/>
            </a:endParaRPr>
          </a:p>
        </p:txBody>
      </p:sp>
      <p:sp>
        <p:nvSpPr>
          <p:cNvPr id="64" name="CaixaDeTexto 6"/>
          <p:cNvSpPr/>
          <p:nvPr/>
        </p:nvSpPr>
        <p:spPr>
          <a:xfrm>
            <a:off x="270000" y="907920"/>
            <a:ext cx="844848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3. Exclusão dos acidentes de traje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o o empregador não possui ingerência sobre a imensa maioria dos acidentes de trajeto, exclusivamente para fins de cálculo do FAP, estes eventos não seriam considerados.</a:t>
            </a:r>
            <a:endParaRPr b="0" lang="en-US" sz="24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inclusão dos acidentes de trajeto no cálculo do FAP não diferencia a acidentalidade de dentro e de fora da empresa.</a:t>
            </a:r>
            <a:endParaRPr b="0" lang="en-US" sz="2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exclusão dos acidentes de trajeto do cálculo do FAP em nada modifica esta espécie acidentária. Estes eventos continuam, nos termos da lei, sendo equiparados a acidentes de trabalho.</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
          <p:cNvSpPr/>
          <p:nvPr/>
        </p:nvSpPr>
        <p:spPr>
          <a:xfrm>
            <a:off x="8697240" y="6410160"/>
            <a:ext cx="4489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Arial"/>
            </a:endParaRPr>
          </a:p>
        </p:txBody>
      </p:sp>
      <p:sp>
        <p:nvSpPr>
          <p:cNvPr id="66" name="CaixaDeTexto 6"/>
          <p:cNvSpPr/>
          <p:nvPr/>
        </p:nvSpPr>
        <p:spPr>
          <a:xfrm>
            <a:off x="179280" y="981000"/>
            <a:ext cx="878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4. Exclusão da Bloqueio de Bonificaçã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rte ou de Invalidez. </a:t>
            </a:r>
            <a:endParaRPr b="0" lang="en-US" sz="2400" spc="-1" strike="noStrike">
              <a:solidFill>
                <a:srgbClr val="000000"/>
              </a:solidFill>
              <a:latin typeface="Arial"/>
            </a:endParaRPr>
          </a:p>
        </p:txBody>
      </p:sp>
      <p:sp>
        <p:nvSpPr>
          <p:cNvPr id="67" name="CaixaDeTexto 6"/>
          <p:cNvSpPr/>
          <p:nvPr/>
        </p:nvSpPr>
        <p:spPr>
          <a:xfrm>
            <a:off x="250920" y="2781360"/>
            <a:ext cx="8642160" cy="26542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licar o FAP calculado, sem qualquer bloqueio.  </a:t>
            </a:r>
            <a:endParaRPr b="0" lang="en-US" sz="24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bloqueio não é relativizado pelo número de empregados.</a:t>
            </a:r>
            <a:endParaRPr b="0" lang="en-US" sz="24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os casos de morte ou invalidez, o FAP da empresa já é agravado pela gravidade e pelo custo.</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8697240" y="6410160"/>
            <a:ext cx="4489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Arial"/>
            </a:endParaRPr>
          </a:p>
        </p:txBody>
      </p:sp>
      <p:sp>
        <p:nvSpPr>
          <p:cNvPr id="69" name="CaixaDeTexto 6"/>
          <p:cNvSpPr/>
          <p:nvPr/>
        </p:nvSpPr>
        <p:spPr>
          <a:xfrm>
            <a:off x="324000" y="765000"/>
            <a:ext cx="82515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a:solidFill>
                  <a:srgbClr val="000000"/>
                </a:solidFill>
                <a:latin typeface="Arial"/>
              </a:rPr>
              <a:t>5. Exclusão da redução de 25% do FAP calculado na faixa </a:t>
            </a:r>
            <a:r>
              <a:rPr b="1" i="1" lang="pt-BR" sz="2400" spc="-1" strike="noStrike">
                <a:solidFill>
                  <a:srgbClr val="000000"/>
                </a:solidFill>
                <a:latin typeface="Arial"/>
              </a:rPr>
              <a:t>malus</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redução de 25% do FAP calculado na faixa </a:t>
            </a:r>
            <a:r>
              <a:rPr b="0" i="1" lang="pt-BR" sz="2400" spc="-1" strike="noStrike">
                <a:solidFill>
                  <a:srgbClr val="000000"/>
                </a:solidFill>
                <a:latin typeface="Arial"/>
              </a:rPr>
              <a:t>malus</a:t>
            </a:r>
            <a:r>
              <a:rPr b="0" lang="pt-BR" sz="2400" spc="-1" strike="noStrike">
                <a:solidFill>
                  <a:srgbClr val="000000"/>
                </a:solidFill>
                <a:latin typeface="Arial"/>
              </a:rPr>
              <a:t> foi implementada sob a argumentação de que o primeiro ano de vigência do FAP coincidia com o início da vigência da alteração do Anexo V, a partir da qual várias atividades econômicas tiveram o grau de risco e a respectiva alíquota aumentada. Portanto, para que várias empresas não suportassem um suposto grande aumento do SAT a recolher, concedeu-se esse desconto, que em princípio seria apenas para 2010, mas que perdura até a presente data.</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5"/>
          <p:cNvSpPr/>
          <p:nvPr/>
        </p:nvSpPr>
        <p:spPr>
          <a:xfrm>
            <a:off x="8697240" y="6410160"/>
            <a:ext cx="4489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Arial"/>
            </a:endParaRPr>
          </a:p>
        </p:txBody>
      </p:sp>
      <p:sp>
        <p:nvSpPr>
          <p:cNvPr id="71" name="CaixaDeTexto 6"/>
          <p:cNvSpPr/>
          <p:nvPr/>
        </p:nvSpPr>
        <p:spPr>
          <a:xfrm>
            <a:off x="-87480" y="981000"/>
            <a:ext cx="9471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6. Exclusão do Bloqueio de Bonificaçã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Taxa Média de Rotatividade acima de 75%</a:t>
            </a:r>
            <a:endParaRPr b="0" lang="en-US" sz="2400" spc="-1" strike="noStrike">
              <a:solidFill>
                <a:srgbClr val="000000"/>
              </a:solidFill>
              <a:latin typeface="Arial"/>
            </a:endParaRPr>
          </a:p>
        </p:txBody>
      </p:sp>
      <p:sp>
        <p:nvSpPr>
          <p:cNvPr id="72" name="CaixaDeTexto 6"/>
          <p:cNvSpPr/>
          <p:nvPr/>
        </p:nvSpPr>
        <p:spPr>
          <a:xfrm>
            <a:off x="-87480" y="2371680"/>
            <a:ext cx="8855280" cy="445104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 regra de rotatividade muita vezes é perversa. Uma vez que a maioria das empresas (75%) possuem poucos empregados (1 a 5), qualquer dispensa tem grande repercussão sobre a rotatividade.</a:t>
            </a:r>
            <a:endParaRPr b="0" lang="en-US" sz="22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 regra atual de cálculo de rotatividade não diferencia rescisão por iniciativa do empregado ou do empregador, e tampouco no contrato de trabalho por prazo determinado ou no indeterminado.</a:t>
            </a:r>
            <a:endParaRPr b="0" lang="en-US" sz="22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ntende-se que o Governo deva desenvolver políticas e ações para diminuição da rotatividade, mas não no âmbito do cálculo do FAP.</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5"/>
          <p:cNvSpPr/>
          <p:nvPr/>
        </p:nvSpPr>
        <p:spPr>
          <a:xfrm>
            <a:off x="8697240" y="6410160"/>
            <a:ext cx="44892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Arial"/>
            </a:endParaRPr>
          </a:p>
        </p:txBody>
      </p:sp>
      <p:sp>
        <p:nvSpPr>
          <p:cNvPr id="74" name="CaixaDeTexto 6"/>
          <p:cNvSpPr/>
          <p:nvPr/>
        </p:nvSpPr>
        <p:spPr>
          <a:xfrm>
            <a:off x="-7920" y="803160"/>
            <a:ext cx="9470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ódigos de Movimentação GFIP atualmente considerados no cálculo</a:t>
            </a:r>
            <a:endParaRPr b="0" lang="en-US" sz="1600" spc="-1" strike="noStrike">
              <a:solidFill>
                <a:srgbClr val="000000"/>
              </a:solidFill>
              <a:latin typeface="Arial"/>
            </a:endParaRPr>
          </a:p>
        </p:txBody>
      </p:sp>
      <p:pic>
        <p:nvPicPr>
          <p:cNvPr id="75" name="Imagem 1" descr=""/>
          <p:cNvPicPr/>
          <p:nvPr/>
        </p:nvPicPr>
        <p:blipFill>
          <a:blip r:embed="rId1"/>
          <a:stretch/>
        </p:blipFill>
        <p:spPr>
          <a:xfrm>
            <a:off x="1379520" y="1141560"/>
            <a:ext cx="6696000" cy="5610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0T17:27:14Z</dcterms:created>
  <dc:creator>Tadeu de Souza</dc:creator>
  <dc:description/>
  <dc:language>en-US</dc:language>
  <cp:lastModifiedBy>Paulo Cesar Andrade Almeida - MPS</cp:lastModifiedBy>
  <cp:lastPrinted>2015-08-25T18:27:55Z</cp:lastPrinted>
  <dcterms:modified xsi:type="dcterms:W3CDTF">2015-08-27T17:21:11Z</dcterms:modified>
  <cp:revision>673</cp:revision>
  <dc:subject/>
  <dc:title>Apresentação do PowerPoint</dc:title>
</cp:coreProperties>
</file>